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4E2-63BB-4C6D-97EC-7EBDC01A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200-683F-45E0-8F16-2D9B16D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A4A-936B-4306-B9F0-A261C750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831-B51F-425B-B721-33FF83EB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DDB-2751-4B12-AE88-89DAF867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F94-C6B8-483A-90CF-918C538B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EB08-92D1-4F1B-9765-09F1D8C6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9B9A-FE27-41EB-8A7A-4926613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3407-3EE1-4747-B600-3F81BA50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8243-89D8-4FB1-B595-BCCDBC8C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26B4-2237-457F-A3E7-5D655CA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3B8-3B04-4C3F-A91E-9FB553D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F5E6-3342-4147-9269-A733AA5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F9C-1081-4440-B06A-AD87408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1A8-C629-4E50-A589-5AA58B6E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B2AD-52E4-4167-8C1E-93A87175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404-3CA2-43C6-9B06-DEEB2E2E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098F-BFE5-4D21-B0D4-E86CD111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EF9B-9F0E-4F7A-9916-4826C8F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6FEC-4A8D-408F-8B00-3ADCAE57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0697-51E5-4220-A48C-B0C66291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4760-BADE-4E84-840F-15B5BDDB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82C-8D1E-40AE-A7C5-FA6BF9AA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E54C-B268-4296-96EF-814C6E1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8B41-0958-4BE9-8658-1B779D3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4320-1993-4168-BE01-3C8D1F7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10F7-C398-40A6-908A-976ADC3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45BA-A7FC-419A-B0D7-CE205E3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1C4D-526F-4AC9-8E94-5ADF0ABB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9A5C-C96A-453E-88E7-1E5C93D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5E2A-F3A0-4A41-922D-36203597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1C68-2E86-4C8E-9AF1-4362F4F7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0C18-C81D-474D-B431-176E7A2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F96-889D-457B-9883-8C2E93E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A17B-2FD1-4A66-BCA8-BD6277C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F160-4886-463A-B609-9258DED7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A2DB-823F-4928-B715-66F2B7B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EBA8-5C7C-4843-AACC-CD4E002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ED21-79E4-4411-ADC5-9B71E93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C7E5F-B7D2-432C-BF62-0AEC03F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D1B7-EC6F-4252-8A0D-DEA500B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7C50-A483-4176-A44B-68D7DCAD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CD5C-7A73-4DC8-B114-70E071C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A94D-04C5-4A3E-B355-B9E632B1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C26-1E86-41E0-B5A7-479CCE56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3053-36F6-4843-8CB8-DBED0F8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13F8-595A-4D39-AE06-47F820AC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D636-FDA5-44F0-BE4A-AE74EB8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95C2-6E28-4C77-B64D-E018152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F8A1-9F61-4952-B91A-52276BE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2631-F2BB-48E4-A84E-BEE6254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EB44-0094-4286-88C1-5FB6265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F6E6-9DFC-4E5D-8966-FE0BCDA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96C14-9874-4702-83D1-E6E8628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978E-CAAB-4837-B289-AD568EFB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4CA-F9A4-4744-BE0D-2405C10E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673E-7475-4F2F-8E96-A033F3C6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7C8-50F2-4270-9910-CB27B17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324-EA4F-430D-B5FD-E249151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9B5-B740-4D63-83EF-406811D7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C08-C818-4469-839B-47BB6809DB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632-6504-42CF-8987-8C4ADA1E9C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89D-D78B-40C4-ABCD-4F622F72E9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531C-B6B8-48D9-9733-3CE630428B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DD1-1292-4920-9235-6CD1F0EFE7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ports &amp; Entertainment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www.paulkiritsis.com/wp-content/uploads/2011/10/marketing-2.jpg"/>
          <p:cNvPicPr/>
          <p:nvPr/>
        </p:nvPicPr>
        <p:blipFill>
          <a:blip r:embed="rId1"/>
          <a:stretch/>
        </p:blipFill>
        <p:spPr>
          <a:xfrm>
            <a:off x="2743200" y="4038480"/>
            <a:ext cx="3127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 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 to MrsSantowasso.wikispaces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 to class p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pen Article “What is the Super Bowl Worth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the article, be prepared to discuss in cla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http://www.footballbabble.com/images/superbowl-xlii.jpg"/>
          <p:cNvPicPr/>
          <p:nvPr/>
        </p:nvPicPr>
        <p:blipFill>
          <a:blip r:embed="rId1"/>
          <a:stretch/>
        </p:blipFill>
        <p:spPr>
          <a:xfrm>
            <a:off x="3124080" y="3651120"/>
            <a:ext cx="2514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Marketing?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cess of developing, promoting, and distributing products, or goods and services, to satisfy customers’ needs and w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10" descr="http://peachebooks.com/yahoo_site_admin/assets/images/Needs_and_Wants.295221839_std.png"/>
          <p:cNvPicPr/>
          <p:nvPr/>
        </p:nvPicPr>
        <p:blipFill>
          <a:blip r:embed="rId1"/>
          <a:srcRect l="10060" t="13279" r="6915" b="12037"/>
          <a:stretch/>
        </p:blipFill>
        <p:spPr>
          <a:xfrm>
            <a:off x="2819520" y="3429000"/>
            <a:ext cx="35049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ing Concept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a that organizations need to satisfy their customers while also trying to reach their organizations’ go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http://www.paranormalknowledge.com/wp-content/uploads/2009/07/money.jpg"/>
          <p:cNvPicPr/>
          <p:nvPr/>
        </p:nvPicPr>
        <p:blipFill>
          <a:blip r:embed="rId1"/>
          <a:stretch/>
        </p:blipFill>
        <p:spPr>
          <a:xfrm>
            <a:off x="2971800" y="2971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rget Marke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ecific group of consumers that an organization selects as the focus of its marketing pla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http://www.entrepreneur-startup-guide.com/wp-content/uploads/2010/10/Target-Market.jpg"/>
          <p:cNvPicPr/>
          <p:nvPr/>
        </p:nvPicPr>
        <p:blipFill>
          <a:blip r:embed="rId1"/>
          <a:stretch/>
        </p:blipFill>
        <p:spPr>
          <a:xfrm>
            <a:off x="25909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mograph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tistics that describe a population in terms of personal characteristics. The most common demographic categories include age, income, occupation, gender, ethnic background, and educational level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2" descr="http://www.greenbuzzagency.com/wp-content/uploads/2010/08/demographics1-300x172.jpg"/>
          <p:cNvPicPr/>
          <p:nvPr/>
        </p:nvPicPr>
        <p:blipFill>
          <a:blip r:embed="rId1"/>
          <a:srcRect l="5329" t="9295" r="6664" b="11624"/>
          <a:stretch/>
        </p:blipFill>
        <p:spPr>
          <a:xfrm>
            <a:off x="2286000" y="3505320"/>
            <a:ext cx="4572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ing Mix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Picture 2" descr="http://pauldunay.com/wp-content/uploads/2010/01/4ps.png"/>
          <p:cNvPicPr/>
          <p:nvPr/>
        </p:nvPicPr>
        <p:blipFill>
          <a:blip r:embed="rId1"/>
          <a:stretch/>
        </p:blipFill>
        <p:spPr>
          <a:xfrm>
            <a:off x="2590920" y="1523880"/>
            <a:ext cx="426708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eate a Collag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the internet, magazines, newspapers..ect to create a collage of packaging you find appealing. Be prepared to explain your choo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product packaging design"/>
          <p:cNvPicPr/>
          <p:nvPr/>
        </p:nvPicPr>
        <p:blipFill>
          <a:blip r:embed="rId1"/>
          <a:stretch/>
        </p:blipFill>
        <p:spPr>
          <a:xfrm>
            <a:off x="2057400" y="304812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1:19:36Z</dcterms:created>
  <dc:creator>Christina</dc:creator>
  <dc:description/>
  <dc:language>en-US</dc:language>
  <cp:lastModifiedBy>Christina</cp:lastModifiedBy>
  <dcterms:modified xsi:type="dcterms:W3CDTF">2012-01-31T02:01:31Z</dcterms:modified>
  <cp:revision>6</cp:revision>
  <dc:subject/>
  <dc:title>Sports &amp; Entertainment Marketing</dc:title>
</cp:coreProperties>
</file>